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288588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00240" y="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30160" y="696960"/>
            <a:ext cx="52293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0024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039669-B452-4878-AD00-3F05922C2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26920" y="696960"/>
            <a:ext cx="522936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to non-Hispanic whites, non-Hispanic blacks had about 50% higher prevalence of obesity, and Hispanics had about 20% higher preva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826920" y="696960"/>
            <a:ext cx="522936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11 states with a prevalence &gt;=30% among Hispanics are Alaska, Arizona, Illinois, Kansas, Michigan, New Hampshire, North Dakota, Oklahoma, Pennsylvania, Tennessee, and Texas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969-379A-4531-B37A-AB8B82E2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1120" y="37497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77E-D9CE-42D4-BC5C-4DCBFF35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F80-F0A9-4177-A17B-0B240560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744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83760" y="16002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7112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744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83760" y="37497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4BE-0CAC-4037-9077-461B9FDB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7B9-CBFE-4934-861C-059B8E11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1C0-909C-448F-9143-93653A8F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0A6-140E-4FA3-A00E-9E83F42C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5AF-33F4-4649-A41F-972E7EFD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71120" y="30456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C13-EACD-430C-98B6-F6589D86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112-75D4-418F-9A1E-F258CDAA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37497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BBB-A54C-4A2F-B5B6-5A4ED734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112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6002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1120" y="37497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851-1FA2-4953-A647-CC1E49B3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96FD-438E-424D-A244-C5A202AA4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994600" y="5908680"/>
            <a:ext cx="936720" cy="636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6515280"/>
            <a:ext cx="7356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: CDC Behavioral Risk Factor Surveillanc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977320" y="5908680"/>
            <a:ext cx="96192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552240"/>
            <a:ext cx="9058320" cy="136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66d"/>
                </a:solidFill>
                <a:latin typeface="Verdana"/>
              </a:rPr>
              <a:t>State-specific Prevalence of Obesity Among U.S. Adults, by Race/Ethnicity, 2006-2008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0720"/>
            <a:ext cx="8744040" cy="400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Definitio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esity: Body mass index (BMI) of 30 or high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dy mass index (BMI): A measure of an adult’s weight in relation to his or her height, specifically the adult’s weight in kilograms divided by the square of his or her height in me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994600" y="5908680"/>
            <a:ext cx="936720" cy="6364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71120" y="1914120"/>
            <a:ext cx="8820360" cy="431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Metho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havioral Risk Factor Surveillance System (BRFSS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f-reported weights and heigh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mited to three years of data and limited to three racial/ethnic populations; non-Hispanic whites, non-Hispanic blacks, and Hispanic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ge-adjusted to the 2000 U.S. standard populatio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994600" y="5908680"/>
            <a:ext cx="936720" cy="636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71480" y="352080"/>
            <a:ext cx="901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66d"/>
                </a:solidFill>
                <a:latin typeface="Verdana"/>
              </a:rPr>
              <a:t>State-specific Prevalence of Obesity Among U.S. Adults, by Race/Ethnicity, 2006-2008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00160" y="602928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17123" r="0" b="10401"/>
          <a:stretch/>
        </p:blipFill>
        <p:spPr>
          <a:xfrm>
            <a:off x="314280" y="1525680"/>
            <a:ext cx="4917960" cy="2395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8158" t="20803" r="0" b="11523"/>
          <a:stretch/>
        </p:blipFill>
        <p:spPr>
          <a:xfrm>
            <a:off x="5675400" y="1677960"/>
            <a:ext cx="4278240" cy="2228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14760" y="3618000"/>
            <a:ext cx="90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0" t="90168" r="17473" b="0"/>
          <a:stretch/>
        </p:blipFill>
        <p:spPr>
          <a:xfrm>
            <a:off x="1657440" y="5962680"/>
            <a:ext cx="6883200" cy="52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1680" y="352440"/>
            <a:ext cx="92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-specific Prevalence of Obesity* Among U.S. Adults, by Race/Ethnicity, 2006-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9440" y="147492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hite non-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53400" y="1531800"/>
            <a:ext cx="17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lack non-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008160" y="3733920"/>
            <a:ext cx="3684600" cy="2209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16839" r="0" b="15581"/>
          <a:stretch/>
        </p:blipFill>
        <p:spPr>
          <a:xfrm>
            <a:off x="1114560" y="1857240"/>
            <a:ext cx="8231040" cy="3875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5400" y="595296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*BMI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90168" r="17473" b="0"/>
          <a:stretch/>
        </p:blipFill>
        <p:spPr>
          <a:xfrm>
            <a:off x="1428840" y="5962680"/>
            <a:ext cx="6883200" cy="520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05120" y="1514520"/>
            <a:ext cx="25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ite non-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680" y="352440"/>
            <a:ext cx="92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-specific Prevalence of Obesity* Among U.S. Adults, by Race/Ethnicity, 2006-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247760" y="1692360"/>
            <a:ext cx="8129520" cy="4241880"/>
            <a:chOff x="1247760" y="1692360"/>
            <a:chExt cx="8129520" cy="42418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rcRect l="0" t="13444" r="0" b="12002"/>
            <a:stretch/>
          </p:blipFill>
          <p:spPr>
            <a:xfrm>
              <a:off x="1247760" y="1692360"/>
              <a:ext cx="8129520" cy="42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1247760" y="1692360"/>
              <a:ext cx="8129520" cy="424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6320" y="595296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0" t="90168" r="17473" b="0"/>
          <a:stretch/>
        </p:blipFill>
        <p:spPr>
          <a:xfrm>
            <a:off x="1428840" y="5962680"/>
            <a:ext cx="6883200" cy="52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71680" y="352440"/>
            <a:ext cx="92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-specific Prevalence of Obesity* Among U.S. Adults, by Race/Ethnicity, 2006-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33720" y="1693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lack non-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285920" y="1684440"/>
            <a:ext cx="7715160" cy="3914640"/>
            <a:chOff x="1285920" y="1684440"/>
            <a:chExt cx="7715160" cy="3914640"/>
          </a:xfrm>
        </p:grpSpPr>
        <p:pic>
          <p:nvPicPr>
            <p:cNvPr id="79" name="" descr=""/>
            <p:cNvPicPr/>
            <p:nvPr/>
          </p:nvPicPr>
          <p:blipFill>
            <a:blip r:embed="rId1"/>
            <a:srcRect l="0" t="12644" r="0" b="15523"/>
            <a:stretch/>
          </p:blipFill>
          <p:spPr>
            <a:xfrm>
              <a:off x="1285920" y="1684440"/>
              <a:ext cx="7715160" cy="39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1285920" y="1684440"/>
              <a:ext cx="7715160" cy="391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595296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*BMI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0" t="90168" r="17473" b="0"/>
          <a:stretch/>
        </p:blipFill>
        <p:spPr>
          <a:xfrm>
            <a:off x="1428840" y="5962680"/>
            <a:ext cx="6883200" cy="520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33720" y="1693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680" y="352440"/>
            <a:ext cx="92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-specific Prevalence of Obesity* Among U.S. Adults, by Race/Ethnicity, 2006-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10287000" cy="6858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080" y="0"/>
            <a:ext cx="93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able. Prevalence of obesity, by region and race/ethnicity, 2006-200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71480" y="762120"/>
          <a:ext cx="8743680" cy="5734080"/>
        </p:xfrm>
        <a:graphic>
          <a:graphicData uri="http://schemas.openxmlformats.org/drawingml/2006/table">
            <a:tbl>
              <a:tblPr/>
              <a:tblGrid>
                <a:gridCol w="1676880"/>
                <a:gridCol w="2307240"/>
                <a:gridCol w="2348640"/>
                <a:gridCol w="241092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on-Hispanic wh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on-Hispanic 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Hispan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Both sex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o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rthe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Both sex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6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o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idwe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Both sex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o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Both sex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6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o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Both sex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o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0287000" cy="6858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1120" y="0"/>
            <a:ext cx="8744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71120" y="990720"/>
            <a:ext cx="8744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n-Hispanic blacks had the highest prevalence, followed by Hispanics, and non-Hispanic whit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non-Hispanic blacks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verall prevalence of obesity—35.7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gher prevalences were found in the Midwest and Sou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alence ranged from 23.0% (New Hampshire) to 45.1% (Maine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0 states had a prevalence of ≥ 3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 states (Alabama, Maine, Mississippi, Ohio, and Oregon) had a prevalence of ≥ 40%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10287000" cy="6858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mmary (Cont’d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837720"/>
            <a:ext cx="9943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Hispanics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verall prevalence of obesity—28.7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wer prevalence was observed in the Northeas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alence ranged from 21.0% (Maryland) to 36.7% (Tennessee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1 states had a prevalence of ≥ 3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non-Hispanic whites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verall prevalence of obesity—23.7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gher prevalences were found in the Midwest and Sou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alence ranged from 9.0% (DC) to 30.2% (West Virginia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ly one state (West Virginia) had a prevalence of ≥ 3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 states (California, Colorado, Connecticut, Hawaii, and New Mexico) and DC had a prevalence of &lt;20%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5:41:08Z</dcterms:created>
  <dc:creator>CDC</dc:creator>
  <dc:description/>
  <dc:language>en-US</dc:language>
  <cp:lastModifiedBy>Nvasquez</cp:lastModifiedBy>
  <cp:lastPrinted>2002-06-18T17:22:31Z</cp:lastPrinted>
  <dcterms:modified xsi:type="dcterms:W3CDTF">2010-04-26T14:35:35Z</dcterms:modified>
  <cp:revision>257</cp:revision>
  <dc:subject/>
  <dc:title>No Slide Title</dc:title>
</cp:coreProperties>
</file>